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8AE-34B0-46F9-9F43-468779B5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6A0-3A39-4880-8506-26206973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8BD-4AA8-4772-9641-CE084C74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95E-DF55-4D85-AAD3-4F263BDF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4DB-36F5-489E-9D6D-740CAF2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D78-81E3-4472-9FBE-AC46BC7A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5BF-ED02-4348-8402-205C8B90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B1A-F5CB-4D6E-B484-F820DB16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D95-FB07-41AD-B0C7-E593388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742-5CED-4D99-B7DA-53078F6F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C7F-D17B-49D4-91F2-EAEAB61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48E-4FFD-4025-9442-FCB5F33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0E00-0D38-4F7D-B4B8-1C46D24BE648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ites.google.com/site/frequencyspecificisc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tlab Toolbox for Inter-Subject Correl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92452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70c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403280" y="2208240"/>
            <a:ext cx="626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fMRI studies utilizing natural stimuli such as movies, music, and video games are getting more and more popular (see, for example [1]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Because these stimuli are extremely complex, modeling hemodynamic responses using the GLM becomes inconveni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Inter-subject correlation (ISC) analysis does not require modeling of the hemodynamic response and has been succesfully applied to investigate natural stimulus fMRI data sets [2-4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Comprehensive and easy-to-use toolbox to study the brain based on ISCs would be benefic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uns on Matlab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Reads in preprocessed and registered fMRI data either in mat- or nifti-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best way to avoid compatibility problems is to preprocess and register your data with the FS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Graphical User Interface (GUI) developed fo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setting-up your analysis parameters corr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-easy and quick visualization of the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Access of the results is fast and easy also directly using command line op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000000"/>
                </a:solidFill>
                <a:latin typeface="Calibri"/>
              </a:rPr>
              <a:t>The use of Matlab’s memory mapping feature avoids many problems associated with large data sets (in terms of both memory and spee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xel-wise ISC analysis across </a:t>
            </a: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calculation of voxel-wis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correlation matri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 permutation based inference on the average of the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1)/2 subject-pairwise correlation coefficients for each voxel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above analysis can be perform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across the whole scann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the specified time-windows to obtain time-varying ISC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-within distinct frequency-subbands to obtain frequency-specific ISC maps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Mor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In addition to mean ISC maps, one can investigate other maps including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he corresponding median, lower quartile, upper quartile and standard deviation ma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t statistical maps [4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-contrast maps to compare ISC between frequency bands [3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Calibri"/>
              </a:rPr>
              <a:t>More features will be added to the toolbox in the near futu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he maximum amount of memory required to run group ISC analysis is determined by the size of the fMRI data of a SINGLE subject (consider also memory limitation of Matla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To run analysis in feasible time, we highly recommend grid computation unless very powerful computer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After running the analysis, quick visualization and command line access of the results should be possible using your personal lapto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SC toolbox: Avail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2320920"/>
            <a:ext cx="8713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ree toolbox is available via the following lin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ites.google.com/site/frequencyspecifici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any questions, 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Jukka-pekka.kauppi {at} tut.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605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. Spiers and E. Maguir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oding human brain activity during real-world experiences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nds in Cognitive Sciences, vol. 11, no. 8, pp. 356-365, August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2] Hasson et al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“Intersubject synchronization of cortical activity during natural vision,” Science, vol. 303, no. 5664, pp. 1634–1640, March 200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3] Kauppi et al: 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-subject correlation of brain hemodynamic responses during watching a movie: localization in space and frequency,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rontiers in Neuroinformatics, March 2010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alibri"/>
              </a:rPr>
              <a:t>[4] Wilson et al: “Beyond superior temporal cortex: Intersubject correlations in narrative speech comprehension,” Cereb. Cortex, vol. 18, no. 1, pp. 230–242, January 200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0:30Z</dcterms:created>
  <dc:creator>Jukkis</dc:creator>
  <dc:description/>
  <dc:language>en-US</dc:language>
  <cp:lastModifiedBy>Jukkis</cp:lastModifiedBy>
  <dcterms:modified xsi:type="dcterms:W3CDTF">2010-07-16T01:19:36Z</dcterms:modified>
  <cp:revision>101</cp:revision>
  <dc:subject/>
  <dc:title>Matlab Toolbox for Inter-Subject Correlation Analysis</dc:title>
</cp:coreProperties>
</file>